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CB1-0850-49BD-8AE2-2EF4A43C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0D7-8BCE-4707-895F-9DD9E359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F3C-7DA8-4390-A606-41FFBE43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F7F-2174-4187-AF31-C9422A3F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B9F8-D2C4-4D95-A0C4-11AFE3AD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D6D3-2398-4A7A-BD7F-6E47C1F0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F888-FE72-4DF8-9DDD-E1B4E66E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AF2E-358D-4A46-8E3D-320AE9AF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7F41-B4B5-4A60-A658-FB0E4ECC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E209-F0D2-420E-AC5F-92C616A1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FEF6-68EC-4775-8634-75B1791D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B66-274A-41EF-AC42-36F63D75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2D1E-CD8C-4193-8586-6D92EFAC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9E23-68C6-4996-8278-02B75632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1D6C-1C0D-48CA-BCAC-EED951DC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1E8A-BE31-4334-8DA0-1298F2FA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B383-9610-40ED-BFB6-E6CF3A90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040-C6F4-4855-B5BB-B879DBFB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40B-3D18-4AFF-9633-9FD27234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975-DFD5-4798-92DF-8FE0D9C1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37B-DC8F-4E72-9B1C-699A1057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130-2E5C-42DE-8421-3C99CE32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DFD-7C1E-4FF1-9724-CC8063CB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DEE-9438-4A1A-9739-FB31520C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3371-0EBA-4AF6-A6DD-3337B27CE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FBF8-35FF-4122-B9F3-4619CDCE2B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images.google.com/imgres?imgurl=http://localcrank.files.wordpress.com/2009/07/ist2_4414731-sliced-bread.jpg&amp;imgrefurl=http://localcrank.wordpress.com/2009/07/07/today-in-history-15/&amp;usg=__JXLJ70oBDze68T2mU8L8YK0PHDU=&amp;h=380&amp;w=365&amp;sz=71&amp;hl=en&amp;start=5&amp;sig2=6wTV00kR1hPCq24r3ubemw&amp;um=1&amp;tbnid=cHvGCWX0ZnO09M:&amp;tbnh=123&amp;tbnw=118&amp;prev=/images%3Fq%3Dbread%26hl%3Den%26rlz%3D1G1GGLQ_ENUS344%26um%3D1&amp;ei=zHkYS_zUI8zQlAfa-ZyJAw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hyperlink" Target="http://images.google.com/imgres?imgurl=http://adminstaff.vassar.edu/sttaylor/FAMINE/PT/riots.jpg&amp;imgrefurl=http://adminstaff.vassar.edu/sttaylor/FAMINE/PT/riots.html&amp;usg=__4IQ8Wc5aBC7rWYA-wrS7X7hQ9ok=&amp;h=392&amp;w=415&amp;sz=71&amp;hl=en&amp;start=4&amp;sig2=0RudC1-3MOd6OwfhPV3_hQ&amp;tbnid=7mjmrfAhCAXx4M:&amp;tbnh=118&amp;tbnw=125&amp;prev=/images%3Fq%3Dpeasant%2Bfood%2Briots%26gbv%3D2%26ndsp%3D20%26hl%3Den%26sa%3DN&amp;ei=QH0YS9-HDIvT8QbnuZTpAw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images.google.com/imgres?imgurl=http://needled.files.wordpress.com/2009/08/arcimboldo_vegetables.jpg&amp;imgrefurl=http://needled.wordpress.com/2009/08/&amp;usg=__TIHdP1eqbcXndGI49jISuVPnzyc=&amp;h=2000&amp;w=1504&amp;sz=682&amp;hl=en&amp;start=12&amp;sig2=X-pmMEatsAJcZpSBw107Rg&amp;tbnid=lrOtPdRTmRZ3yM:&amp;tbnh=150&amp;tbnw=113&amp;prev=/images%3Fq%3Dvegetables%26gbv%3D2%26ndsp%3D20%26hl%3Den%26sa%3DN&amp;ei=Z3wYS8CsMpHk8Aai6sTaAw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images.google.com/imgres?imgurl=http://successhealthnews.com/wp-content/uploads/2008/09/meat.jpg&amp;imgrefurl=http://successhealthnews.com/%3Fp%3D70&amp;usg=__9LCoVxuqUwKKVaXl6ZHv04_7MbM=&amp;h=350&amp;w=472&amp;sz=18&amp;hl=en&amp;start=4&amp;sig2=9tcosKgezWaxbJUxoP8ECA&amp;tbnid=VrVMNRqZDPUN7M:&amp;tbnh=96&amp;tbnw=129&amp;prev=/images%3Fq%3Dmeat%26gbv%3D2%26hl%3Den&amp;ei=GXwYS_i0FY_S8QaciujYAw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od and Medical Pract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 Fro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lan Bra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ets and Nutr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18th century, people still dependent on g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te large amounts of bread-sometimes 2 pounds a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o feel full, poor ate grains in soup, gr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In Northern Scotland, people ate half baked oatmeal-lasted in their stomach lo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56360" y="914400"/>
            <a:ext cx="17542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ic Imp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“Just price”: What the poor thought prices should be for protecting consumers and produc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Later in century, morality with prices decreases with free market economy, compet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Supply and demand favored by government, econom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Prices rise, harvests are poor-lead to food rio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Peasants, workers stop wagons, seize their g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51055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ge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, rural in poverty ate most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ed the “poor people’s fo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s and beans ate the most, produced the most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vegetables ate in season: cabbages, carrots, wild gre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it rare, only in summer s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533520"/>
            <a:ext cx="2057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t and H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s loved meat, eg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e less meat due to population increases-mor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transformation begins,-only Britain, Low Countries see increase in m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game laws-no hunting rabbits, dear, partri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nobles, landowners could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mb, mutton usually eaten on religious 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15200" y="52578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ch Diet (Officials, Aristocrat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“Rapacious carnivores”-dinners with many meats,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te little to no fruits, vegetables-had more sauces, sweets and che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normous overdrinking-The English squire known as “four-bottle m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Drank over long periods-not too d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48720" y="3352680"/>
            <a:ext cx="108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ddle Class (traders, craftsman, bureaucra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Market gardens had meats, vegetables, fruits-still bread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Northern Europe overall ate better than South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nglish generally ate more meat, French had bread and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2819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5:57Z</dcterms:created>
  <dc:creator>MNS</dc:creator>
  <dc:description/>
  <dc:language>en-US</dc:language>
  <cp:lastModifiedBy>MNS</cp:lastModifiedBy>
  <dcterms:modified xsi:type="dcterms:W3CDTF">2009-12-04T14:03:56Z</dcterms:modified>
  <cp:revision>7</cp:revision>
  <dc:subject/>
  <dc:title>Food and Medical Practice</dc:title>
</cp:coreProperties>
</file>